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CB6-58D2-47AD-83D4-601B3FEB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7C0-C573-4993-99BE-5AD9962A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25B-1C2F-4FD9-8917-36667F0A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11D-D2D8-482C-8835-6E4A415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FDE-5658-48BB-8B97-18A62EB0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227-AC72-406B-855E-DE93F464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7CA-650D-4C86-986E-4A0AD198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5EF-F220-47AB-99F5-162AD28F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6EC-DC2F-4BD4-83AC-CD4073E6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0D2-9613-40C7-8035-58D639ED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567-D770-44C4-B72B-A0858D89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DD2-1742-4BF1-B043-8BA0880E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28B5-8367-4F50-BBD1-6BCBBBA81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file:///tmp/home/.config/libreoffice/4/user/gallery/MSSN00693A0000%5B1%5D.wav" TargetMode="External"/><Relationship Id="rId5" Type="http://schemas.microsoft.com/office/2007/relationships/media" Target="file:///tmp/home/.config/libreoffice/4/user/gallery/MSSN00693A0000%5B1%5D.wav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zzie Clou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219320"/>
            <a:ext cx="59436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Canal 21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Hoy en Bolivia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3733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89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562720" y="4114800"/>
            <a:ext cx="380880" cy="2286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85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72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990720" cy="96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1752120" y="990720"/>
            <a:ext cx="762120" cy="759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09520" y="2362320"/>
            <a:ext cx="228600" cy="3045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18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2666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54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18960" y="2743200"/>
            <a:ext cx="152280" cy="5335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600200" y="1905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988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59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57600" y="4800240"/>
            <a:ext cx="380880" cy="3049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57200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co dia prono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3328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èrco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e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r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rampa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los trun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 txBox="1"/>
          <p:nvPr/>
        </p:nvSpPr>
        <p:spPr>
          <a:xfrm>
            <a:off x="2133720" y="541008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cre, Bolivia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947520" cy="99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0" y="365760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86200" y="3809880"/>
            <a:ext cx="1371600" cy="125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029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486400" y="365760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7162920" y="3733920"/>
            <a:ext cx="1093680" cy="115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17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 Fin de Se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38280" y="1600200"/>
          <a:ext cx="3962520" cy="3862440"/>
        </p:xfrm>
        <a:graphic>
          <a:graphicData uri="http://schemas.openxmlformats.org/drawingml/2006/table">
            <a:tbl>
              <a:tblPr/>
              <a:tblGrid>
                <a:gridCol w="1905120"/>
                <a:gridCol w="20574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b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10940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bff7"/>
            </a:gs>
            <a:gs pos="100000">
              <a:srgbClr val="5e29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438280"/>
            <a:ext cx="75438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DIOS!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519200" cy="2209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120492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62920" y="304920"/>
            <a:ext cx="15192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352680" y="304920"/>
            <a:ext cx="1519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7:18:57Z</dcterms:created>
  <dc:creator>ecloutier11</dc:creator>
  <dc:description/>
  <dc:language>en-US</dc:language>
  <cp:lastModifiedBy>ghrabovecky</cp:lastModifiedBy>
  <dcterms:modified xsi:type="dcterms:W3CDTF">2008-12-08T17:38:34Z</dcterms:modified>
  <cp:revision>7</cp:revision>
  <dc:subject/>
  <dc:title>Slide 1</dc:title>
</cp:coreProperties>
</file>